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5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D83-4628-4898-8192-C80D281E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7C9-F8D9-442D-9AB4-9DED06ED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64CF-81D9-40B8-BA62-D256928F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5ABF-3ACE-4807-8204-97707F4E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2F1-1925-4711-B89B-EA53302D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D7D9-BE7D-48B6-B8C0-D7EBFE34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B979-D47C-4AED-BE54-27527892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B291-D6F7-4EB8-9125-8CDEA264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869-5431-41F7-B455-34945D76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C372-C3A9-4456-9D42-E368F640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47A-D968-4F4C-966B-D137ED2E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F80-6B1A-4D39-BB16-61E6F193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A957-BF36-4258-B3B6-35848AFB7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3"/>
          <p:cNvSpPr/>
          <p:nvPr/>
        </p:nvSpPr>
        <p:spPr>
          <a:xfrm>
            <a:off x="457200" y="609480"/>
            <a:ext cx="8305920" cy="563904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6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entury Gothic"/>
              </a:rPr>
              <a:t>Actividades interactivas y de comunicación I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876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ra. Cherice Montgomery y Dra. Nieves Knap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Group 7"/>
          <p:cNvGrpSpPr/>
          <p:nvPr/>
        </p:nvGrpSpPr>
        <p:grpSpPr>
          <a:xfrm>
            <a:off x="3581280" y="2666880"/>
            <a:ext cx="2133720" cy="1905120"/>
            <a:chOff x="3581280" y="2666880"/>
            <a:chExt cx="2133720" cy="1905120"/>
          </a:xfrm>
        </p:grpSpPr>
        <p:grpSp>
          <p:nvGrpSpPr>
            <p:cNvPr id="45" name="Rounded Rectangle 6"/>
            <p:cNvGrpSpPr/>
            <p:nvPr/>
          </p:nvGrpSpPr>
          <p:grpSpPr>
            <a:xfrm>
              <a:off x="3581280" y="2666880"/>
              <a:ext cx="2133720" cy="1905120"/>
              <a:chOff x="3581280" y="2666880"/>
              <a:chExt cx="2133720" cy="1905120"/>
            </a:xfrm>
          </p:grpSpPr>
          <p:pic>
            <p:nvPicPr>
              <p:cNvPr id="46" name="Rounded Rectangl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2666880"/>
                <a:ext cx="2133720" cy="19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3704040" y="2789640"/>
                <a:ext cx="1893600" cy="16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" name="Picture 5" descr="BabyCougarVertical.jpg"/>
            <p:cNvPicPr/>
            <p:nvPr/>
          </p:nvPicPr>
          <p:blipFill>
            <a:blip r:embed="rId2"/>
            <a:stretch/>
          </p:blipFill>
          <p:spPr>
            <a:xfrm>
              <a:off x="3836160" y="2820240"/>
              <a:ext cx="1630080" cy="165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8"/>
          <p:cNvGrpSpPr/>
          <p:nvPr/>
        </p:nvGrpSpPr>
        <p:grpSpPr>
          <a:xfrm>
            <a:off x="1066680" y="47520"/>
            <a:ext cx="7120080" cy="6810480"/>
            <a:chOff x="1066680" y="47520"/>
            <a:chExt cx="7120080" cy="6810480"/>
          </a:xfrm>
        </p:grpSpPr>
        <p:sp>
          <p:nvSpPr>
            <p:cNvPr id="89" name="AutoShape 9"/>
            <p:cNvSpPr/>
            <p:nvPr/>
          </p:nvSpPr>
          <p:spPr>
            <a:xfrm flipV="1" rot="16200000">
              <a:off x="6631200" y="1695240"/>
              <a:ext cx="1720800" cy="91440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0"/>
            <p:cNvSpPr/>
            <p:nvPr/>
          </p:nvSpPr>
          <p:spPr>
            <a:xfrm>
              <a:off x="1066680" y="4683240"/>
              <a:ext cx="1361880" cy="1136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1"/>
            <p:cNvSpPr/>
            <p:nvPr/>
          </p:nvSpPr>
          <p:spPr>
            <a:xfrm>
              <a:off x="3322440" y="47520"/>
              <a:ext cx="1763640" cy="14428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S" sz="18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Punto de partida</a:t>
              </a:r>
              <a:r>
                <a:rPr b="1" lang="es-US" sz="18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12"/>
            <p:cNvSpPr/>
            <p:nvPr/>
          </p:nvSpPr>
          <p:spPr>
            <a:xfrm>
              <a:off x="1260360" y="206280"/>
              <a:ext cx="2062080" cy="128412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  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= yo    </a:t>
              </a:r>
              <a:r>
                <a:rPr b="1" i="1" lang="es-US" sz="16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ir + a + lug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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 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= t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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 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= él, ella, ust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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 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= nosotros, nosotr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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 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= vosotros, vosotr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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 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= ellos, ellas, usted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3"/>
            <p:cNvSpPr/>
            <p:nvPr/>
          </p:nvSpPr>
          <p:spPr>
            <a:xfrm>
              <a:off x="5413320" y="2176200"/>
              <a:ext cx="1600200" cy="99540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4"/>
            <p:cNvSpPr/>
            <p:nvPr/>
          </p:nvSpPr>
          <p:spPr>
            <a:xfrm>
              <a:off x="6518520" y="263160"/>
              <a:ext cx="1371600" cy="1023840"/>
            </a:xfrm>
            <a:prstGeom prst="flowChartProcess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Pierde un tur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5"/>
            <p:cNvSpPr/>
            <p:nvPr/>
          </p:nvSpPr>
          <p:spPr>
            <a:xfrm>
              <a:off x="2746080" y="1863720"/>
              <a:ext cx="1143000" cy="91440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16"/>
            <p:cNvSpPr/>
            <p:nvPr/>
          </p:nvSpPr>
          <p:spPr>
            <a:xfrm flipV="1" rot="16200000">
              <a:off x="1374120" y="1729440"/>
              <a:ext cx="1143000" cy="160020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7"/>
            <p:cNvSpPr/>
            <p:nvPr/>
          </p:nvSpPr>
          <p:spPr>
            <a:xfrm>
              <a:off x="4137120" y="3595680"/>
              <a:ext cx="2467080" cy="90468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8"/>
            <p:cNvSpPr/>
            <p:nvPr/>
          </p:nvSpPr>
          <p:spPr>
            <a:xfrm>
              <a:off x="3889440" y="1960560"/>
              <a:ext cx="1485720" cy="1257120"/>
            </a:xfrm>
            <a:prstGeom prst="leftArrowCallout">
              <a:avLst>
                <a:gd name="adj1" fmla="val 25002"/>
                <a:gd name="adj2" fmla="val 25000"/>
                <a:gd name="adj3" fmla="val 19697"/>
                <a:gd name="adj4" fmla="val 66673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Adelanta 3 espa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9"/>
            <p:cNvSpPr/>
            <p:nvPr/>
          </p:nvSpPr>
          <p:spPr>
            <a:xfrm>
              <a:off x="4834080" y="5105520"/>
              <a:ext cx="1600200" cy="16002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  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Fi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20"/>
            <p:cNvSpPr/>
            <p:nvPr/>
          </p:nvSpPr>
          <p:spPr>
            <a:xfrm flipV="1" rot="16200000">
              <a:off x="2425320" y="3761640"/>
              <a:ext cx="2087640" cy="133488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1"/>
            <p:cNvSpPr/>
            <p:nvPr/>
          </p:nvSpPr>
          <p:spPr>
            <a:xfrm>
              <a:off x="1260360" y="3171600"/>
              <a:ext cx="1485720" cy="1511280"/>
            </a:xfrm>
            <a:prstGeom prst="rightArrowCallout">
              <a:avLst>
                <a:gd name="adj1" fmla="val 25432"/>
                <a:gd name="adj2" fmla="val 25430"/>
                <a:gd name="adj3" fmla="val 16667"/>
                <a:gd name="adj4" fmla="val 66667"/>
              </a:avLst>
            </a:prstGeom>
            <a:solidFill>
              <a:srgbClr val="ffffff"/>
            </a:solidFill>
            <a:ln cap="rnd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Ataj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22"/>
            <p:cNvSpPr/>
            <p:nvPr/>
          </p:nvSpPr>
          <p:spPr>
            <a:xfrm>
              <a:off x="6458040" y="5024520"/>
              <a:ext cx="1728720" cy="183348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23"/>
            <p:cNvSpPr/>
            <p:nvPr/>
          </p:nvSpPr>
          <p:spPr>
            <a:xfrm>
              <a:off x="6632640" y="3490920"/>
              <a:ext cx="1295280" cy="1485720"/>
            </a:xfrm>
            <a:prstGeom prst="downArrowCallout">
              <a:avLst>
                <a:gd name="adj1" fmla="val 25002"/>
                <a:gd name="adj2" fmla="val 25000"/>
                <a:gd name="adj3" fmla="val 19117"/>
                <a:gd name="adj4" fmla="val 6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Avanza 3 espac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4" descr="MCj02903690000[1]"/>
            <p:cNvPicPr/>
            <p:nvPr/>
          </p:nvPicPr>
          <p:blipFill>
            <a:blip r:embed="rId1"/>
            <a:stretch/>
          </p:blipFill>
          <p:spPr>
            <a:xfrm>
              <a:off x="5251320" y="339480"/>
              <a:ext cx="107640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AutoShape 25"/>
            <p:cNvSpPr/>
            <p:nvPr/>
          </p:nvSpPr>
          <p:spPr>
            <a:xfrm>
              <a:off x="5086440" y="149040"/>
              <a:ext cx="1371600" cy="1257120"/>
            </a:xfrm>
            <a:prstGeom prst="octagon">
              <a:avLst>
                <a:gd name="adj" fmla="val 2928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26" descr="MCj02900520000[1]"/>
            <p:cNvPicPr/>
            <p:nvPr/>
          </p:nvPicPr>
          <p:blipFill>
            <a:blip r:embed="rId2"/>
            <a:stretch/>
          </p:blipFill>
          <p:spPr>
            <a:xfrm>
              <a:off x="7120080" y="1685880"/>
              <a:ext cx="76176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7" descr="MCj04316310000[1]"/>
            <p:cNvPicPr/>
            <p:nvPr/>
          </p:nvPicPr>
          <p:blipFill>
            <a:blip r:embed="rId3"/>
            <a:stretch/>
          </p:blipFill>
          <p:spPr>
            <a:xfrm>
              <a:off x="5742000" y="2239920"/>
              <a:ext cx="86184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8" descr="MCj04118720000[1]"/>
            <p:cNvPicPr/>
            <p:nvPr/>
          </p:nvPicPr>
          <p:blipFill>
            <a:blip r:embed="rId4"/>
            <a:stretch/>
          </p:blipFill>
          <p:spPr>
            <a:xfrm>
              <a:off x="2801880" y="1901520"/>
              <a:ext cx="96336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9" descr="MCj03103900000[1]"/>
            <p:cNvPicPr/>
            <p:nvPr/>
          </p:nvPicPr>
          <p:blipFill>
            <a:blip r:embed="rId5"/>
            <a:stretch/>
          </p:blipFill>
          <p:spPr>
            <a:xfrm>
              <a:off x="1466640" y="1958760"/>
              <a:ext cx="98244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0" descr="MCj02959920000[1]"/>
            <p:cNvPicPr/>
            <p:nvPr/>
          </p:nvPicPr>
          <p:blipFill>
            <a:blip r:embed="rId6"/>
            <a:stretch/>
          </p:blipFill>
          <p:spPr>
            <a:xfrm>
              <a:off x="2682720" y="3751200"/>
              <a:ext cx="1401840" cy="14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31" descr="MCIN00495_0000[1]"/>
            <p:cNvPicPr/>
            <p:nvPr/>
          </p:nvPicPr>
          <p:blipFill>
            <a:blip r:embed="rId7"/>
            <a:stretch/>
          </p:blipFill>
          <p:spPr>
            <a:xfrm>
              <a:off x="6892920" y="5454720"/>
              <a:ext cx="88884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32" descr="MCj03317280000[1]"/>
            <p:cNvPicPr/>
            <p:nvPr/>
          </p:nvPicPr>
          <p:blipFill>
            <a:blip r:embed="rId8"/>
            <a:stretch/>
          </p:blipFill>
          <p:spPr>
            <a:xfrm>
              <a:off x="1274400" y="4772160"/>
              <a:ext cx="96840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33" descr="MCSL01398_0000[1]"/>
            <p:cNvPicPr/>
            <p:nvPr/>
          </p:nvPicPr>
          <p:blipFill>
            <a:blip r:embed="rId9"/>
            <a:stretch/>
          </p:blipFill>
          <p:spPr>
            <a:xfrm>
              <a:off x="5000760" y="3605040"/>
              <a:ext cx="828720" cy="8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TextBox 27"/>
          <p:cNvSpPr/>
          <p:nvPr/>
        </p:nvSpPr>
        <p:spPr>
          <a:xfrm>
            <a:off x="914400" y="64008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dea adaptada de Richard L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914400" y="685800"/>
            <a:ext cx="7391520" cy="601992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entury Gothic"/>
              </a:rPr>
              <a:t>Hoja de respuestas para el juego de m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14600" y="2270160"/>
          <a:ext cx="4054320" cy="1616040"/>
        </p:xfrm>
        <a:graphic>
          <a:graphicData uri="http://schemas.openxmlformats.org/drawingml/2006/table">
            <a:tbl>
              <a:tblPr/>
              <a:tblGrid>
                <a:gridCol w="202716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           </a:t>
                      </a:r>
                      <a:r>
                        <a:rPr b="1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i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rono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él, ella, us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osotros, nosot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osotros, vosot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los, ellas, uste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523880" y="4038480"/>
          <a:ext cx="6080400" cy="2378160"/>
        </p:xfrm>
        <a:graphic>
          <a:graphicData uri="http://schemas.openxmlformats.org/drawingml/2006/table">
            <a:tbl>
              <a:tblPr/>
              <a:tblGrid>
                <a:gridCol w="925560"/>
                <a:gridCol w="914400"/>
                <a:gridCol w="424044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ic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2"/>
          <p:cNvSpPr/>
          <p:nvPr/>
        </p:nvSpPr>
        <p:spPr>
          <a:xfrm>
            <a:off x="1447920" y="619920"/>
            <a:ext cx="525780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iembros del grup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nstrucciones:  Tiren los dados y escriban las frases que les indi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" descr="MCj02995270000[1]"/>
          <p:cNvPicPr/>
          <p:nvPr/>
        </p:nvPicPr>
        <p:blipFill>
          <a:blip r:embed="rId1"/>
          <a:stretch/>
        </p:blipFill>
        <p:spPr>
          <a:xfrm rot="21021000">
            <a:off x="3847680" y="2257560"/>
            <a:ext cx="612720" cy="5061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0"/>
          <p:cNvSpPr/>
          <p:nvPr/>
        </p:nvSpPr>
        <p:spPr>
          <a:xfrm>
            <a:off x="4952880" y="64008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Idea adaptada de Richard L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entury Gothic"/>
              </a:rPr>
              <a:t>Puesta en comú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1523880" y="1523880"/>
            <a:ext cx="6019920" cy="4876920"/>
            <a:chOff x="1523880" y="1523880"/>
            <a:chExt cx="6019920" cy="4876920"/>
          </a:xfrm>
        </p:grpSpPr>
        <p:grpSp>
          <p:nvGrpSpPr>
            <p:cNvPr id="124" name="Oval 6"/>
            <p:cNvGrpSpPr/>
            <p:nvPr/>
          </p:nvGrpSpPr>
          <p:grpSpPr>
            <a:xfrm>
              <a:off x="1523880" y="1523880"/>
              <a:ext cx="6019920" cy="4876920"/>
              <a:chOff x="1523880" y="1523880"/>
              <a:chExt cx="6019920" cy="4876920"/>
            </a:xfrm>
          </p:grpSpPr>
          <p:pic>
            <p:nvPicPr>
              <p:cNvPr id="125" name="Oval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3880" y="1523880"/>
                <a:ext cx="6019920" cy="487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2427120" y="2260080"/>
                <a:ext cx="4216320" cy="34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" name="Picture 1" descr="C:\Documents and Settings\LocalUser\Local Settings\Temporary Internet Files\Content.IE5\XFJ95R61\MCHM00092_0000[1].wmf"/>
            <p:cNvPicPr/>
            <p:nvPr/>
          </p:nvPicPr>
          <p:blipFill>
            <a:blip r:embed="rId2"/>
            <a:stretch/>
          </p:blipFill>
          <p:spPr>
            <a:xfrm>
              <a:off x="2706480" y="1913400"/>
              <a:ext cx="4281840" cy="39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1143000" y="1523880"/>
            <a:ext cx="6934320" cy="50292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entury Gothic"/>
              </a:rPr>
              <a:t>Comprende y conte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3880" y="2241720"/>
          <a:ext cx="6096240" cy="3840120"/>
        </p:xfrm>
        <a:graphic>
          <a:graphicData uri="http://schemas.openxmlformats.org/drawingml/2006/table">
            <a:tbl>
              <a:tblPr/>
              <a:tblGrid>
                <a:gridCol w="1333800"/>
                <a:gridCol w="1334880"/>
                <a:gridCol w="758880"/>
                <a:gridCol w="1335240"/>
                <a:gridCol w="1333440"/>
              </a:tblGrid>
              <a:tr h="164628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3600"/>
                      </a:b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3600"/>
                      </a:b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*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Object 3"/>
          <p:cNvGraphicFramePr/>
          <p:nvPr/>
        </p:nvGraphicFramePr>
        <p:xfrm>
          <a:off x="6629400" y="2514600"/>
          <a:ext cx="72396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2514600"/>
                    <a:ext cx="7239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"/>
          <p:cNvGraphicFramePr/>
          <p:nvPr/>
        </p:nvGraphicFramePr>
        <p:xfrm>
          <a:off x="3200400" y="2514600"/>
          <a:ext cx="71424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514600"/>
                    <a:ext cx="714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4"/>
          <p:cNvGraphicFramePr/>
          <p:nvPr/>
        </p:nvGraphicFramePr>
        <p:xfrm>
          <a:off x="5486400" y="2514600"/>
          <a:ext cx="324000" cy="5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2514600"/>
                    <a:ext cx="32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"/>
          <p:cNvGraphicFramePr/>
          <p:nvPr/>
        </p:nvGraphicFramePr>
        <p:xfrm>
          <a:off x="2057400" y="2438280"/>
          <a:ext cx="32400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2438280"/>
                    <a:ext cx="32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5"/>
          <p:cNvSpPr/>
          <p:nvPr/>
        </p:nvSpPr>
        <p:spPr>
          <a:xfrm>
            <a:off x="1523880" y="160164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                               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4876920" y="62485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Idea adaptada de Helena Cur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"/>
          <p:cNvSpPr/>
          <p:nvPr/>
        </p:nvSpPr>
        <p:spPr>
          <a:xfrm>
            <a:off x="304920" y="1371600"/>
            <a:ext cx="8610480" cy="5334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entury Gothic"/>
              </a:rPr>
              <a:t>Comprende y conte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523880"/>
          <a:ext cx="8305920" cy="5034240"/>
        </p:xfrm>
        <a:graphic>
          <a:graphicData uri="http://schemas.openxmlformats.org/drawingml/2006/table">
            <a:tbl>
              <a:tblPr/>
              <a:tblGrid>
                <a:gridCol w="1996920"/>
                <a:gridCol w="2043360"/>
                <a:gridCol w="226800"/>
                <a:gridCol w="2041560"/>
                <a:gridCol w="1997280"/>
              </a:tblGrid>
              <a:tr h="46368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¡Vamos a ayudarte la próxima vez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*</a:t>
                      </a: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ncontré unos granos de trigo.  ¿Quién quiere sembrarlos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Por qué no quieren ayudarme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o nos gusta trabaj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¡Nosotros no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Por qué no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ntonces, ¡lo haré yo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stá bien. Estamos ocupado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o nos gusta trabaj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Quién quiere comer el pan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Quién quiere hornear el pan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o queremos ayudart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stá bien. Estamos ocupado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Quién quiere cortar el trigo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ncontré unos granos de trigo.  ¿Quién quiere sembrarlos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iau, miau.  ¡Yo no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Guau, guau.  ¡Yo no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uac, cuac.  ¡Yo no tampoco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enemos sueñ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Quién quiere desgranar el trigo y llevarlo al molino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Quién quiere cortar el trigo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¡Nosotros no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o queremos ayudart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Por qué no quieren ayudarme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Por qué no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enemos sueñ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iau, miau.  ¡Yo no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Guau, guau.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¡Yo no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uac, cuac.  ¡Yo no tampoco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ntonces, ¡lo haré yo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Quién quiere desgranar el trigo y llevarlo al molino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osotros no podemos porque no tenemos tiemp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52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Guau, guau.  ¡Yo sí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iau, miau.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¡Yo sí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uac, cuac.  ¡Yo sí también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Quién sembró el trigo y lo atendió? ¿Quién lo cortó, lo desgranó, y lo llevó al molino?  ¿Quién horneó la hogaza de pan?  ¡Yo lo hice todo!  Y ahora, voy a comerlo tod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Quién sembró el trigo y lo atendió? ¿Quién lo cortó, lo desgranó, y lo llevó al molino?  ¿Quién horneó la hogaza de pan?  ¡Yo lo hice todo!  Y ahora, voy a comerlo tod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¡Vamos a ayudarte la próxima vez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osotros no podemos porque no tenemos tiemp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Quién quiere hornear el pan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Quién quiere comer el pan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Guau, guau.  ¡Yo sí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iau, miau.  ¡Yo sí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uac, cuac.  ¡Yo sí también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Object 8"/>
          <p:cNvGraphicFramePr/>
          <p:nvPr/>
        </p:nvGraphicFramePr>
        <p:xfrm>
          <a:off x="7353360" y="1542960"/>
          <a:ext cx="72396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3360" y="1542960"/>
                    <a:ext cx="7239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6"/>
          <p:cNvGraphicFramePr/>
          <p:nvPr/>
        </p:nvGraphicFramePr>
        <p:xfrm>
          <a:off x="2971800" y="1542960"/>
          <a:ext cx="71424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542960"/>
                    <a:ext cx="714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7"/>
          <p:cNvGraphicFramePr/>
          <p:nvPr/>
        </p:nvGraphicFramePr>
        <p:xfrm>
          <a:off x="1276200" y="1581120"/>
          <a:ext cx="247680" cy="39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6200" y="1581120"/>
                    <a:ext cx="247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1"/>
          <p:cNvGraphicFramePr/>
          <p:nvPr/>
        </p:nvGraphicFramePr>
        <p:xfrm>
          <a:off x="5619600" y="1581120"/>
          <a:ext cx="247680" cy="39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19600" y="1581120"/>
                    <a:ext cx="247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Rectangle 5" descr=""/>
          <p:cNvPicPr/>
          <p:nvPr/>
        </p:nvPicPr>
        <p:blipFill>
          <a:blip r:embed="rId9"/>
          <a:stretch/>
        </p:blipFill>
        <p:spPr>
          <a:xfrm>
            <a:off x="2077920" y="701640"/>
            <a:ext cx="750960" cy="60948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5" descr=""/>
          <p:cNvPicPr/>
          <p:nvPr/>
        </p:nvPicPr>
        <p:blipFill>
          <a:blip r:embed="rId10"/>
          <a:stretch/>
        </p:blipFill>
        <p:spPr>
          <a:xfrm>
            <a:off x="6450120" y="695160"/>
            <a:ext cx="693720" cy="6033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2"/>
          <p:cNvSpPr/>
          <p:nvPr/>
        </p:nvSpPr>
        <p:spPr>
          <a:xfrm>
            <a:off x="6019920" y="650556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Idea adaptada de Helena Cur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1143000" y="1523880"/>
            <a:ext cx="6934320" cy="50292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entury Gothic"/>
              </a:rPr>
              <a:t>El patr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523880" y="2241720"/>
          <a:ext cx="6096240" cy="3840120"/>
        </p:xfrm>
        <a:graphic>
          <a:graphicData uri="http://schemas.openxmlformats.org/drawingml/2006/table">
            <a:tbl>
              <a:tblPr/>
              <a:tblGrid>
                <a:gridCol w="1333800"/>
                <a:gridCol w="1334880"/>
                <a:gridCol w="758880"/>
                <a:gridCol w="1335240"/>
                <a:gridCol w="1333440"/>
              </a:tblGrid>
              <a:tr h="164628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3600"/>
                      </a:b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3600"/>
                      </a:b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*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Object 3"/>
          <p:cNvGraphicFramePr/>
          <p:nvPr/>
        </p:nvGraphicFramePr>
        <p:xfrm>
          <a:off x="6629400" y="2514600"/>
          <a:ext cx="72396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2514600"/>
                    <a:ext cx="7239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"/>
          <p:cNvGraphicFramePr/>
          <p:nvPr/>
        </p:nvGraphicFramePr>
        <p:xfrm>
          <a:off x="3200400" y="2514600"/>
          <a:ext cx="71424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514600"/>
                    <a:ext cx="714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4"/>
          <p:cNvGraphicFramePr/>
          <p:nvPr/>
        </p:nvGraphicFramePr>
        <p:xfrm>
          <a:off x="5486400" y="2514600"/>
          <a:ext cx="324000" cy="5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2514600"/>
                    <a:ext cx="32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2"/>
          <p:cNvGraphicFramePr/>
          <p:nvPr/>
        </p:nvGraphicFramePr>
        <p:xfrm>
          <a:off x="2057400" y="2438280"/>
          <a:ext cx="32400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2438280"/>
                    <a:ext cx="32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5"/>
          <p:cNvSpPr/>
          <p:nvPr/>
        </p:nvSpPr>
        <p:spPr>
          <a:xfrm>
            <a:off x="1523880" y="160164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                               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4876920" y="61722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Idea adaptada de Helena Cur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entury Gothic"/>
              </a:rPr>
              <a:t>Puesta en comú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1523880" y="1523880"/>
            <a:ext cx="6019920" cy="4876920"/>
            <a:chOff x="1523880" y="1523880"/>
            <a:chExt cx="6019920" cy="4876920"/>
          </a:xfrm>
        </p:grpSpPr>
        <p:grpSp>
          <p:nvGrpSpPr>
            <p:cNvPr id="173" name="Oval 6"/>
            <p:cNvGrpSpPr/>
            <p:nvPr/>
          </p:nvGrpSpPr>
          <p:grpSpPr>
            <a:xfrm>
              <a:off x="1523880" y="1523880"/>
              <a:ext cx="6019920" cy="4876920"/>
              <a:chOff x="1523880" y="1523880"/>
              <a:chExt cx="6019920" cy="4876920"/>
            </a:xfrm>
          </p:grpSpPr>
          <p:pic>
            <p:nvPicPr>
              <p:cNvPr id="174" name="Oval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3880" y="1523880"/>
                <a:ext cx="6019920" cy="487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2427120" y="2260080"/>
                <a:ext cx="4216320" cy="34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6" name="Picture 1" descr="C:\Documents and Settings\LocalUser\Local Settings\Temporary Internet Files\Content.IE5\XFJ95R61\MCHM00092_0000[1].wmf"/>
            <p:cNvPicPr/>
            <p:nvPr/>
          </p:nvPicPr>
          <p:blipFill>
            <a:blip r:embed="rId2"/>
            <a:stretch/>
          </p:blipFill>
          <p:spPr>
            <a:xfrm>
              <a:off x="2706480" y="1913400"/>
              <a:ext cx="4281840" cy="39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457200" y="1600200"/>
            <a:ext cx="8153280" cy="4572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nnect with Other Disciplines and Acquir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andard 3.1: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 Students reinforce and further their knowledge of other disciplines through the foreig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andard 3.2: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 Students acquire information and recognize the distinctive viewpoints that are only available through the foreign language and its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entury Gothic"/>
              </a:rPr>
              <a:t>Conex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457200" y="1600200"/>
            <a:ext cx="8077320" cy="419112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Develop Insight into the Nature of Language an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andard 4.1: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 Students demonstrate understanding of the nature of language through comparisons of the language studied and thei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andard 4.2: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 Students demonstrate understanding of the concept of culture through comparisons of the cultures studied and their 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entury Gothic"/>
              </a:rPr>
              <a:t>Compara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09480" y="1676520"/>
            <a:ext cx="8229600" cy="43434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entury Gothic"/>
              </a:rPr>
              <a:t>Círculos concéntr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853920" y="1887480"/>
            <a:ext cx="7756560" cy="3903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entury Gothic"/>
                <a:ea typeface="SimSun"/>
              </a:rPr>
              <a:t>Contesta una pregunta diferente cada vez que cambies de compañero/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entury Gothic"/>
                <a:ea typeface="SimSun"/>
              </a:rPr>
              <a:t>¿Cómo se llama tu orug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entury Gothic"/>
                <a:ea typeface="SimSun"/>
              </a:rPr>
              <a:t>¿De qué color 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entury Gothic"/>
                <a:ea typeface="SimSun"/>
              </a:rPr>
              <a:t>)  ¿Es tu oruga grande o pequeñ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entury Gothic"/>
                <a:ea typeface="SimSun"/>
              </a:rPr>
              <a:t>¿Qué frutas le gusta comer a tu orug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entury Gothic"/>
                <a:ea typeface="SimSun"/>
              </a:rPr>
              <a:t>)  ¿Y qué verduras le gusta co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entury Gothic"/>
                <a:ea typeface="SimSun"/>
              </a:rPr>
              <a:t>)  ¿En qué se va a convertir tu oruga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304920" y="1143000"/>
            <a:ext cx="8534160" cy="510552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entury Gothic"/>
              </a:rPr>
              <a:t>Círculos concéntr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752480"/>
          <a:ext cx="8229600" cy="4267440"/>
        </p:xfrm>
        <a:graphic>
          <a:graphicData uri="http://schemas.openxmlformats.org/drawingml/2006/table">
            <a:tbl>
              <a:tblPr/>
              <a:tblGrid>
                <a:gridCol w="3032280"/>
                <a:gridCol w="1731960"/>
                <a:gridCol w="1733400"/>
                <a:gridCol w="1731960"/>
              </a:tblGrid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SimSun"/>
                        </a:rPr>
                        <a:t>Compañer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SimSun"/>
                        </a:rPr>
                        <a:t>Compañer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SimSun"/>
                        </a:rPr>
                        <a:t>Compañer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SimSun"/>
                        </a:rPr>
                        <a:t>1)  Mi oruga se llama _____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SimSun"/>
                        </a:rPr>
                        <a:t>2)  Es de color ____________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SimSun"/>
                        </a:rPr>
                        <a:t>3)  Es ____________________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SimSun"/>
                        </a:rPr>
                        <a:t>4)  Le gusta comer _______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SimSun"/>
                        </a:rPr>
                        <a:t>5)  Le gusta comer _______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SimSun"/>
                        </a:rPr>
                        <a:t>6)  En una ___________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Rectangle 1"/>
          <p:cNvSpPr/>
          <p:nvPr/>
        </p:nvSpPr>
        <p:spPr>
          <a:xfrm>
            <a:off x="580320" y="1220040"/>
            <a:ext cx="77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SimSun"/>
              </a:rPr>
              <a:t>Llena los espacios en blanco con las respuestas de tus compañeros/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entury Gothic"/>
              </a:rPr>
              <a:t>Puesta en comú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 5"/>
          <p:cNvGrpSpPr/>
          <p:nvPr/>
        </p:nvGrpSpPr>
        <p:grpSpPr>
          <a:xfrm>
            <a:off x="1523880" y="1523880"/>
            <a:ext cx="6019920" cy="4876920"/>
            <a:chOff x="1523880" y="1523880"/>
            <a:chExt cx="6019920" cy="4876920"/>
          </a:xfrm>
        </p:grpSpPr>
        <p:grpSp>
          <p:nvGrpSpPr>
            <p:cNvPr id="62" name="Oval 6"/>
            <p:cNvGrpSpPr/>
            <p:nvPr/>
          </p:nvGrpSpPr>
          <p:grpSpPr>
            <a:xfrm>
              <a:off x="1523880" y="1523880"/>
              <a:ext cx="6019920" cy="4876920"/>
              <a:chOff x="1523880" y="1523880"/>
              <a:chExt cx="6019920" cy="4876920"/>
            </a:xfrm>
          </p:grpSpPr>
          <p:pic>
            <p:nvPicPr>
              <p:cNvPr id="63" name="Oval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3880" y="1523880"/>
                <a:ext cx="6019920" cy="487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2427120" y="2260080"/>
                <a:ext cx="4216320" cy="34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" name="Picture 1" descr="C:\Documents and Settings\LocalUser\Local Settings\Temporary Internet Files\Content.IE5\XFJ95R61\MCHM00092_0000[1].wmf"/>
            <p:cNvPicPr/>
            <p:nvPr/>
          </p:nvPicPr>
          <p:blipFill>
            <a:blip r:embed="rId2"/>
            <a:stretch/>
          </p:blipFill>
          <p:spPr>
            <a:xfrm>
              <a:off x="2706480" y="1913400"/>
              <a:ext cx="4281840" cy="39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3" descr="Build A Business.jpg"/>
          <p:cNvPicPr/>
          <p:nvPr/>
        </p:nvPicPr>
        <p:blipFill>
          <a:blip r:embed="rId1"/>
          <a:srcRect l="0" t="14446" r="0" b="0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69" name="Title 1"/>
          <p:cNvSpPr/>
          <p:nvPr/>
        </p:nvSpPr>
        <p:spPr>
          <a:xfrm>
            <a:off x="1905120" y="0"/>
            <a:ext cx="5410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entury Gothic"/>
              </a:rPr>
              <a:t>Simu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6781680" y="65818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Idea de ACTFL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entury Gothic"/>
              </a:rPr>
              <a:t>Puesta en comú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1523880" y="1523880"/>
            <a:ext cx="6019920" cy="4876920"/>
            <a:chOff x="1523880" y="1523880"/>
            <a:chExt cx="6019920" cy="4876920"/>
          </a:xfrm>
        </p:grpSpPr>
        <p:grpSp>
          <p:nvGrpSpPr>
            <p:cNvPr id="73" name="Oval 6"/>
            <p:cNvGrpSpPr/>
            <p:nvPr/>
          </p:nvGrpSpPr>
          <p:grpSpPr>
            <a:xfrm>
              <a:off x="1523880" y="1523880"/>
              <a:ext cx="6019920" cy="4876920"/>
              <a:chOff x="1523880" y="1523880"/>
              <a:chExt cx="6019920" cy="4876920"/>
            </a:xfrm>
          </p:grpSpPr>
          <p:pic>
            <p:nvPicPr>
              <p:cNvPr id="74" name="Oval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3880" y="1523880"/>
                <a:ext cx="6019920" cy="487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2427120" y="2260080"/>
                <a:ext cx="4216320" cy="34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" name="Picture 1" descr="C:\Documents and Settings\LocalUser\Local Settings\Temporary Internet Files\Content.IE5\XFJ95R61\MCHM00092_0000[1].wmf"/>
            <p:cNvPicPr/>
            <p:nvPr/>
          </p:nvPicPr>
          <p:blipFill>
            <a:blip r:embed="rId2"/>
            <a:stretch/>
          </p:blipFill>
          <p:spPr>
            <a:xfrm>
              <a:off x="2706480" y="1913400"/>
              <a:ext cx="4281840" cy="39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entury Gothic"/>
              </a:rPr>
              <a:t>Cuadro de comprensión audi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990720"/>
          <a:ext cx="8534160" cy="5227560"/>
        </p:xfrm>
        <a:graphic>
          <a:graphicData uri="http://schemas.openxmlformats.org/drawingml/2006/table">
            <a:tbl>
              <a:tblPr/>
              <a:tblGrid>
                <a:gridCol w="1054080"/>
                <a:gridCol w="788760"/>
                <a:gridCol w="738360"/>
                <a:gridCol w="842760"/>
                <a:gridCol w="632160"/>
                <a:gridCol w="1054080"/>
                <a:gridCol w="1054080"/>
                <a:gridCol w="1263600"/>
                <a:gridCol w="1106280"/>
              </a:tblGrid>
              <a:tr h="56016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Me llamo 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948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Voy al . .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Voy a la . .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Maris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l acueduc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 la catedr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 la corrida de tor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DeAnd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l ba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l 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shl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 la bibliote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l estadio de fútb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31" descr="MCj04080900000[1]"/>
          <p:cNvPicPr/>
          <p:nvPr/>
        </p:nvPicPr>
        <p:blipFill>
          <a:blip r:embed="rId1"/>
          <a:stretch/>
        </p:blipFill>
        <p:spPr>
          <a:xfrm>
            <a:off x="1371600" y="18478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0" descr="MCj02173620000[1]"/>
          <p:cNvPicPr/>
          <p:nvPr/>
        </p:nvPicPr>
        <p:blipFill>
          <a:blip r:embed="rId2"/>
          <a:stretch/>
        </p:blipFill>
        <p:spPr>
          <a:xfrm>
            <a:off x="2133720" y="1857240"/>
            <a:ext cx="685800" cy="657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1" descr="MCj03552970000[1]"/>
          <p:cNvPicPr/>
          <p:nvPr/>
        </p:nvPicPr>
        <p:blipFill>
          <a:blip r:embed="rId3"/>
          <a:stretch/>
        </p:blipFill>
        <p:spPr>
          <a:xfrm>
            <a:off x="2895480" y="1809720"/>
            <a:ext cx="771480" cy="857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0" descr="MCj04080880000[1]"/>
          <p:cNvPicPr/>
          <p:nvPr/>
        </p:nvPicPr>
        <p:blipFill>
          <a:blip r:embed="rId4"/>
          <a:stretch/>
        </p:blipFill>
        <p:spPr>
          <a:xfrm>
            <a:off x="3867120" y="1790640"/>
            <a:ext cx="399960" cy="800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2" descr="MCj02959450000[1]"/>
          <p:cNvPicPr/>
          <p:nvPr/>
        </p:nvPicPr>
        <p:blipFill>
          <a:blip r:embed="rId5"/>
          <a:stretch/>
        </p:blipFill>
        <p:spPr>
          <a:xfrm>
            <a:off x="4381560" y="1819440"/>
            <a:ext cx="1028520" cy="847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5" descr="MCj04336920000[1]"/>
          <p:cNvPicPr/>
          <p:nvPr/>
        </p:nvPicPr>
        <p:blipFill>
          <a:blip r:embed="rId6"/>
          <a:stretch/>
        </p:blipFill>
        <p:spPr>
          <a:xfrm>
            <a:off x="5562720" y="1806480"/>
            <a:ext cx="761760" cy="784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6" descr="MCj04350630000[1]"/>
          <p:cNvPicPr/>
          <p:nvPr/>
        </p:nvPicPr>
        <p:blipFill>
          <a:blip r:embed="rId7"/>
          <a:stretch/>
        </p:blipFill>
        <p:spPr>
          <a:xfrm>
            <a:off x="6543720" y="1951200"/>
            <a:ext cx="1152360" cy="487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2" descr="MCTR00205_0000[1]"/>
          <p:cNvPicPr/>
          <p:nvPr/>
        </p:nvPicPr>
        <p:blipFill>
          <a:blip r:embed="rId8"/>
          <a:stretch/>
        </p:blipFill>
        <p:spPr>
          <a:xfrm>
            <a:off x="7848720" y="1773360"/>
            <a:ext cx="885600" cy="817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6172200" y="640080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dea adaptada de Barbara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07:50:30Z</dcterms:created>
  <dc:creator>Cherice Montgomery</dc:creator>
  <dc:description/>
  <dc:language>en-US</dc:language>
  <cp:lastModifiedBy>Cherice Montgomery</cp:lastModifiedBy>
  <dcterms:modified xsi:type="dcterms:W3CDTF">2009-07-03T04:29:38Z</dcterms:modified>
  <cp:revision>56</cp:revision>
  <dc:subject/>
  <dc:title>Actividades interactivas y de comunicación I </dc:title>
</cp:coreProperties>
</file>